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DAF-3851-4B41-83D3-C6E84499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DCA-E8B4-43C0-9D13-47D0D745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B8D-F3C5-4D21-9227-7D39224D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01C-A5CE-4F3F-946F-960D6489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A5E-175F-4BEF-8278-279CA0ED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259-FA50-4B30-89DA-E03BAA7A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168-DF4F-4C4E-B2FC-59E7EAE6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BCE-9BA5-42FC-9CCE-3D2CB0E5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678-576D-4534-90DE-0BD1BEF6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A28-F8B3-4B83-8E21-A1E957E7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198-31FB-4CBE-8E7A-55095494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038-9A98-4668-A2C2-7FB69FEC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DBB4-4202-4F8B-AF57-074692ED3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Using Area Models for Distributive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The following presentation will teach you how to build area models with AlgeBlocks to solve problems using the Distributive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Distributive Proper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44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62120" y="304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Let’s look at an easy problem. Here is how we would make an area model for 2 x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501156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 Make sure you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4956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2767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6160" y="9144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2 and 3 are the factors in our problem. They are also the dimensions (length and width)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508200"/>
            <a:ext cx="301680" cy="301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3809880"/>
            <a:ext cx="301680" cy="301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5238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Again, make sure to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200400"/>
            <a:ext cx="301680" cy="301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3200400"/>
            <a:ext cx="301680" cy="301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200400"/>
            <a:ext cx="301680" cy="301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981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model the area. The students will need to determine which blocks fit perfectly in th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57800" y="3505320"/>
            <a:ext cx="914400" cy="606240"/>
            <a:chOff x="5257800" y="3505320"/>
            <a:chExt cx="914400" cy="606240"/>
          </a:xfrm>
        </p:grpSpPr>
        <p:sp>
          <p:nvSpPr>
            <p:cNvPr id="60" name=""/>
            <p:cNvSpPr/>
            <p:nvPr/>
          </p:nvSpPr>
          <p:spPr>
            <a:xfrm>
              <a:off x="5257800" y="35053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57800" y="38098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62720" y="35053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62720" y="38098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35053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70520" y="38098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019920" y="4343400"/>
            <a:ext cx="2057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, the area is 6. Back to our equation, 2 x 3 = 6. 2 and 3 are the factors or dimensions, and 6 is the product or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Distributive Proper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68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62120" y="304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let’s try the following problem: x(x + 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501156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4956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6160" y="9144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x and (x + 3) are the factors or dimensions on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15238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81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model the area. The students will need to determine which blocks fit perfectly in th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518148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, the area is 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+ 3x. Back to our equation, x(x + 3) = 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3x. x and (x + 3) are the factors or dimensions and 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3x is the product or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3505320"/>
            <a:ext cx="301680" cy="13716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257800" y="3195720"/>
            <a:ext cx="2282760" cy="306360"/>
            <a:chOff x="5257800" y="3195720"/>
            <a:chExt cx="2282760" cy="306360"/>
          </a:xfrm>
        </p:grpSpPr>
        <p:sp>
          <p:nvSpPr>
            <p:cNvPr id="80" name=""/>
            <p:cNvSpPr/>
            <p:nvPr/>
          </p:nvSpPr>
          <p:spPr>
            <a:xfrm>
              <a:off x="7238880" y="31957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57927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3432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2940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257800" y="3505320"/>
            <a:ext cx="2282760" cy="1371600"/>
            <a:chOff x="5257800" y="3505320"/>
            <a:chExt cx="2282760" cy="1371600"/>
          </a:xfrm>
        </p:grpSpPr>
        <p:sp>
          <p:nvSpPr>
            <p:cNvPr id="85" name=""/>
            <p:cNvSpPr/>
            <p:nvPr/>
          </p:nvSpPr>
          <p:spPr>
            <a:xfrm>
              <a:off x="5257800" y="35053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3432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3888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Distributive Proper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90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62120" y="304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One last problem to practice. 2x(2x +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01156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4956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6160" y="9144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2x and (2x + 2) are the factors or dimensions on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15238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81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model the area. The students will need to determine which blocks fit perfectly in th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1480" y="595800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What do you think the area 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952880" y="3505320"/>
            <a:ext cx="301680" cy="2743200"/>
            <a:chOff x="4952880" y="3505320"/>
            <a:chExt cx="301680" cy="2743200"/>
          </a:xfrm>
        </p:grpSpPr>
        <p:sp>
          <p:nvSpPr>
            <p:cNvPr id="101" name=""/>
            <p:cNvSpPr/>
            <p:nvPr/>
          </p:nvSpPr>
          <p:spPr>
            <a:xfrm>
              <a:off x="495288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2880" y="48769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57800" y="3200400"/>
            <a:ext cx="3349800" cy="301680"/>
            <a:chOff x="5257800" y="3200400"/>
            <a:chExt cx="3349800" cy="301680"/>
          </a:xfrm>
        </p:grpSpPr>
        <p:sp>
          <p:nvSpPr>
            <p:cNvPr id="104" name=""/>
            <p:cNvSpPr/>
            <p:nvPr/>
          </p:nvSpPr>
          <p:spPr>
            <a:xfrm rot="5400000">
              <a:off x="57927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0100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71643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257800" y="3505320"/>
            <a:ext cx="3349800" cy="2743200"/>
            <a:chOff x="5257800" y="3505320"/>
            <a:chExt cx="3349800" cy="2743200"/>
          </a:xfrm>
        </p:grpSpPr>
        <p:sp>
          <p:nvSpPr>
            <p:cNvPr id="109" name=""/>
            <p:cNvSpPr/>
            <p:nvPr/>
          </p:nvSpPr>
          <p:spPr>
            <a:xfrm>
              <a:off x="5257800" y="35053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100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0592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01000" y="48769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9400" y="35053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48769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29400" y="48769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05920" y="48769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495680" y="63244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If you said 4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4x, you are corre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Distributive Proper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5:09:02Z</dcterms:created>
  <dc:creator>Mary</dc:creator>
  <dc:description/>
  <dc:language>en-US</dc:language>
  <cp:lastModifiedBy>Mary</cp:lastModifiedBy>
  <dcterms:modified xsi:type="dcterms:W3CDTF">2008-07-22T21:03:19Z</dcterms:modified>
  <cp:revision>8</cp:revision>
  <dc:subject/>
  <dc:title>Slide 1</dc:title>
</cp:coreProperties>
</file>